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97571-8122-480B-A505-C521972C309A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AB0D1-0D59-4516-BC03-5D735F4431B4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1A254-79AB-4B11-BFE5-AD80A37F8E1B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6A1C4-5385-40CC-9E4A-3161C8E7C352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EA19A-DFB6-415F-ADE5-54A74702D7F5}" type="slidenum"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B9A01-D746-497C-9494-B97D550CB20D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8ED03-F955-4D1E-A708-2F9609BA5900}" type="slidenum"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974FE-1A8D-4696-A675-C8A5A511EE21}" type="slidenum"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4DDE8-D3FC-46E0-A6E2-B434FD43EC12}" type="slidenum"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7B8A0-C291-4C51-BA65-0DAA285D1671}" type="slidenum"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F43FE-C16C-4B82-A685-59FC4F1A01D0}" type="slidenum"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F424-D047-43E0-B542-9B048D6D16D1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D7A15E-B44B-4807-A0FD-8D22FE18E57C}" type="slidenum"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E0BF-A2CC-4FD2-A89A-8E5419D30483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AC5E7-1B93-49C0-80C0-A2F80A4C9ABB}" type="slidenum">
              <a:rPr b="0" lang="el-GR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2FE3E6-ED91-4E13-B187-A750BDEFE81A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B8AB6-75E5-43B3-85A3-BFAB67D766E6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D4457-974C-4468-B40D-ECDDBF5A2AE8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C39B5-62DB-4809-8868-4332A386FA87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62E6D-7178-4C68-8508-59E2CDC6DCC9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8965-94C6-4B5C-8754-7BD98288F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B82D-6A77-4C8B-A448-CECDAD692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D9C5-AD53-44EE-AC91-628677A5BA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E2EBE-1D61-4900-8C92-9E8895BD0C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0E57-D492-49D7-841A-9A70ECB05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EA572-05A4-4E7E-B172-86AE507C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33B29-B5DE-4370-ACD0-16961E37B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02FFE-37EC-4BFD-8E2F-4B5D7E922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89E6-9F5A-4568-A58A-7DC5BE30E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2E8A-43A8-4D53-B556-6E7A14B65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7B03F-486B-4CA1-BEF6-54A9E9972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3D14F-B9DA-4D75-8969-CB09BE171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490E4-22CD-4B9F-B24C-24DB24318F31}" type="slidenum">
              <a:rPr b="0" lang="el-G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2b816d"/>
                </a:solidFill>
                <a:latin typeface="Calibri"/>
              </a:rPr>
              <a:t>ΜΕΓΑΛΟΒΛΑΣΤΙΚΗ ΑΝΑΙΜΙ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ΕΡΓΑΣΤΗΡΙΑΚΑ ΕΥΡΗΜΑΤΑ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684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1f497d"/>
                </a:solidFill>
                <a:uFillTx/>
                <a:latin typeface="Calibri"/>
              </a:rPr>
              <a:t>Στο μυελό των οστώ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Καθυστέρηση ωρίμανσης πυρήν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Μεγάλοι ερυθροβλάστες με ανώμαλους πυρήνες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Μειωμένα δυκτιοερυθροκύτταρ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Στην κοκκιώδη σειρά: Γιγάντια μεταμυελοκύτταρ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1f497d"/>
                </a:solidFill>
                <a:uFillTx/>
                <a:latin typeface="Calibri"/>
              </a:rPr>
              <a:t>Ευρήματα ήπιας ενδαγγειακής αιμόλυση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Λόγω μη αποδοτικής ερυθροποίηση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1f497d"/>
                </a:solidFill>
                <a:uFillTx/>
                <a:latin typeface="Calibri"/>
              </a:rPr>
              <a:t>Μειωμένα επίπεδα κοβαλαμίνης (Β</a:t>
            </a:r>
            <a:r>
              <a:rPr b="1" lang="el-GR" sz="2600" spc="-1" strike="noStrike" u="sng" baseline="-25000">
                <a:solidFill>
                  <a:srgbClr val="1f497d"/>
                </a:solidFill>
                <a:uFillTx/>
                <a:latin typeface="Calibri"/>
              </a:rPr>
              <a:t>12</a:t>
            </a:r>
            <a:r>
              <a:rPr b="1" lang="el-GR" sz="2600" spc="-1" strike="noStrike" u="sng">
                <a:solidFill>
                  <a:srgbClr val="1f497d"/>
                </a:solidFill>
                <a:uFillTx/>
                <a:latin typeface="Calibri"/>
              </a:rPr>
              <a:t>) πλάσματο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1f497d"/>
                </a:solidFill>
                <a:uFillTx/>
                <a:latin typeface="Calibri"/>
              </a:rPr>
              <a:t>Σε ανεπάρκεια φυλλικού οξέος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Μειωμένα επίπεδα φυλλικού οξέος στον ορό και στα ερυθρά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ΘΕΡΑΠΕΙΑ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Υποστηρικτική θεραπεί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Επί ανεπάρκειας Β</a:t>
            </a:r>
            <a:r>
              <a:rPr b="0" lang="el-GR" sz="3200" spc="-1" strike="noStrike" baseline="-25000">
                <a:solidFill>
                  <a:srgbClr val="1f497d"/>
                </a:solidFill>
                <a:latin typeface="Calibri"/>
              </a:rPr>
              <a:t>12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: Χορήγηση Β</a:t>
            </a:r>
            <a:r>
              <a:rPr b="0" lang="el-GR" sz="3200" spc="-1" strike="noStrike" baseline="-25000">
                <a:solidFill>
                  <a:srgbClr val="1f497d"/>
                </a:solidFill>
                <a:latin typeface="Calibri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Επί ανεπάρκειας φυλλικού: Χορήγηση φυλλικού οξέο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ΚΑΚΟΗΘΗΣ ΑΝΑΙΜΙΑ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42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Ελαττωμένη έκκριση ενδογενούς παράγοντα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που είναι απαραίτητος για την απορρόφηση της Β</a:t>
            </a:r>
            <a:r>
              <a:rPr b="0" lang="el-GR" sz="2800" spc="-1" strike="noStrike" baseline="-25000">
                <a:solidFill>
                  <a:srgbClr val="1f497d"/>
                </a:solidFill>
                <a:latin typeface="Calibri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Μείωση απορρόφησης Β</a:t>
            </a:r>
            <a:r>
              <a:rPr b="0" lang="el-GR" sz="2800" spc="-1" strike="noStrike" baseline="-25000">
                <a:solidFill>
                  <a:srgbClr val="1f497d"/>
                </a:solidFill>
                <a:latin typeface="Calibri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Μεγαλοβλαστική και μακροκυτταρική αναιμ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υξημένη παραγωγή χολερυθρίνης λόγω αιμόλυσης των ανώμαλων ερυθρών (ίκτερο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2b816d"/>
                </a:solidFill>
                <a:latin typeface="Calibri"/>
              </a:rPr>
              <a:t>ΑΙΜΟΛΥΤΙΚΕΣ ΑΝΑΙΜΙΕ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ΑΙΜΟΛΥΤΙΚΕΣ ΑΝΑΙΜΙΕΣ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42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Είναι οι αναιμίες που οφείλονται σε αιμόλυση, δηλαδή σε αύξηση του ρυθμού καταστροφής των ερυθρών αιμοσφαιρίω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Στην αιμόλυση ο χρόνος ζωής των ερυθρών μειώνεται από 120 ημέρες σε λιγότερο από 100 ημέρε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ΤΑΞΙΝΟΜΗΣΕΙΣ ΑΙΜΟΛΥΤΙΚΩΝ ΑΝΑΙΜΙΩΝ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425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2800" spc="-1" strike="noStrike">
              <a:solidFill>
                <a:srgbClr val="1f497d"/>
              </a:solidFill>
              <a:latin typeface="Calibri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468360" y="1341360"/>
          <a:ext cx="8280360" cy="5073840"/>
        </p:xfrm>
        <a:graphic>
          <a:graphicData uri="http://schemas.openxmlformats.org/drawingml/2006/table">
            <a:tbl>
              <a:tblPr/>
              <a:tblGrid>
                <a:gridCol w="4140000"/>
                <a:gridCol w="4140360"/>
              </a:tblGrid>
              <a:tr h="83988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ΚΡΙΤΗΡΙΟ ΤΑΞΙΝΟΜΗΣΗ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l-GR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ΜΟΡΦΕΣ ΑΙΜΟΛΥΤΙΚΗΣ ΑΝΑΙΜΙΑ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8460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1. Τόπος καταστροφής ερυθρώ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buClr>
                          <a:srgbClr val="1f497d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ξωαγγειακ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1f497d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νδοαγγειακ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7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2. Διάρκεια καταστροφή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buClr>
                          <a:srgbClr val="1f497d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Οξεί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1f497d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Χρόνι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3. Κληρονομικότητ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buClr>
                          <a:srgbClr val="1f497d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Συγγενή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1f497d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πίκτητ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84744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4. Αίτιο καταστροφής ερυθρώ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buClr>
                          <a:srgbClr val="1f497d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νδοερυθροκυτταρικ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1f497d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ξωερυθροκυτταρική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8463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5. Συμμετοχή ανοσοποιητικο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marL="343080" indent="-343080">
                        <a:buClr>
                          <a:srgbClr val="1f497d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Ανοσολογικής αρχή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marL="343080" indent="-343080">
                        <a:buClr>
                          <a:srgbClr val="1f497d"/>
                        </a:buClr>
                        <a:buFont typeface="Calibri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Μη ανοσολογικής αρχή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ΠΑΘΟΦΥΣΙΟΛΟΓΙΚΗ ΤΑΞΙΟΝΟΜΗΣΗ ΑΙΜΟΛΥΤΙΚΩΝ ΑΝΑΙΜΙΩΝ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539280" y="1600200"/>
            <a:ext cx="8425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Ι. ΣΥΓΓΕΝΕΙ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1f497d"/>
                </a:solidFill>
                <a:latin typeface="Calibri"/>
              </a:rPr>
              <a:t>Διαταραχές μεμβράνη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1f497d"/>
                </a:solidFill>
                <a:latin typeface="Calibri"/>
              </a:rPr>
              <a:t>Έλλειψη ενζύμων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στα ερυθρά (π.χ. έλλειψη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G6PD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1f497d"/>
                </a:solidFill>
                <a:latin typeface="Calibri"/>
              </a:rPr>
              <a:t>Διαταραχές αιμοσφαιρίνη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    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- μεσογειακή αναιμ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    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- δρεπανοκυτταρικ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    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- άλλες αιμοσφαιρινοπάθειε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539280" y="189000"/>
            <a:ext cx="842508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ΙΙ. ΕΠΙΚΤΗΤΕ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f497d"/>
                </a:solidFill>
                <a:latin typeface="Calibri"/>
              </a:rPr>
              <a:t>Ανοσολογικής αρχή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1" lang="el-GR" sz="2400" spc="-1" strike="noStrike">
                <a:solidFill>
                  <a:srgbClr val="1f497d"/>
                </a:solidFill>
                <a:latin typeface="Calibri"/>
              </a:rPr>
              <a:t>-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Αυτοάνοση αιμολυτική αναιμί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- Αλλοάνοση αιμολυτική αναιμί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- Φαρμακογενή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f497d"/>
                </a:solidFill>
                <a:latin typeface="Calibri"/>
              </a:rPr>
              <a:t>2.   Σύνδρομα κατακερματισμού ερυθρώ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- Μικροαγγειοπαθητική αιμόλυση από ποικίλες αιτίε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- Προσθετικές βαλβίδε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- Γιγαντιαίο αιμαγγείωμ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- Εγκαύματ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f497d"/>
                </a:solidFill>
                <a:latin typeface="Calibri"/>
              </a:rPr>
              <a:t>3.   Χημικοί και Φυσικοί παράγοντε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- Δηλητήρι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- Φάρμακ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- Βιομηχανικές ουσίε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f497d"/>
                </a:solidFill>
                <a:latin typeface="Calibri"/>
              </a:rPr>
              <a:t>4.   Λοιμώξει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f497d"/>
                </a:solidFill>
                <a:latin typeface="Calibri"/>
              </a:rPr>
              <a:t>5.   Άλλα αίτια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ΕΚΔΗΛΩΣΕΙΣ ΑΙΜΟΛΥΤΙΚΗΣ ΑΝΑΙΜΙΑΣ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50560" y="1268280"/>
            <a:ext cx="8713800" cy="4857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Αρχικά χωρίς συμπτώματα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, λόγω αντιστάθμιση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Στη συνέχεια, εκδηλώσεις αναιμίας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ναιμί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Δικτυοερυθροκυττάρωσ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Ίκτερο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Σπληνομεγαλ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Εμφάνιση Χολολιθίαση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υξημένα επίπεδα σιδήρου -κίνδυνος εναπόθεσης σε καρδιά και ήπαρ (διόγκωση ήπατο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Όταν η κατάσταση δεν μπορεί να αντιρροπισθεί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, τότε η αιμόλυση οδηγεί σε πτώση του αιματοκρίτ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2b816d"/>
                </a:solidFill>
                <a:latin typeface="Calibri"/>
              </a:rPr>
              <a:t>ΕΡΓΑΣΤΗΡΙΑΚΑ ΕΥΡΗΜΑΤΑ ΣΤΙΣ ΑΙΜΟΛΥΤΙΚΕΣ ΑΝΑΙΜΙΕ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250560" y="1413000"/>
            <a:ext cx="8893080" cy="471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1f497d"/>
                </a:solidFill>
                <a:latin typeface="Calibri"/>
              </a:rPr>
              <a:t>Τα ευρήματα εξαρτώνται από την αιτία της αιμόλυση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 u="sng">
                <a:solidFill>
                  <a:srgbClr val="1f497d"/>
                </a:solidFill>
                <a:uFillTx/>
                <a:latin typeface="Calibri"/>
              </a:rPr>
              <a:t>Γενικά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Πτώση αριθμού ερυθρών και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H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Αυξημένα Δικτυοερυθροκύτταρ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Αύξηση χολερυθρίνης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και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LDH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(λόγω αιμόλυσης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Αύξηση σιδήρου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Τα υπόλοιπα εξαρτώνται από την αιτία της αιμόλυση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2b816d"/>
                </a:solidFill>
                <a:latin typeface="Calibri"/>
              </a:rPr>
              <a:t>ΤΡΟΦΙΚΕΣ ΑΠΑΙΤΗΣΕΙΣ ΓΙΑ ΤΗΝ ΠΑΡΑΓΩΓΗ ΕΡΥΘΡΟΚΥΤΤΑΡΩ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042560" y="1988640"/>
            <a:ext cx="7777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buClr>
                <a:srgbClr val="a227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a22700"/>
                </a:solidFill>
                <a:latin typeface="Calibri"/>
              </a:rPr>
              <a:t>Βιταμίνη Β12 (κυανοκοβαλαμίνη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a227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a22700"/>
                </a:solidFill>
                <a:latin typeface="Calibri"/>
              </a:rPr>
              <a:t>Φυλλικό οξ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spcBef>
                <a:spcPts val="799"/>
              </a:spcBef>
              <a:buClr>
                <a:srgbClr val="a227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a22700"/>
                </a:solidFill>
                <a:latin typeface="Calibri"/>
              </a:rPr>
              <a:t>Σίδηρο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2b816d"/>
                </a:solidFill>
                <a:latin typeface="Calibri"/>
              </a:rPr>
              <a:t>ΜΕΓΑΛΟΒΛΑΣΤΙΚΗ ΑΝΑΙΜΙΑ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Οφείλεται σε ανεπάρκεια της βιταμίνης Β12 ή/και του φυλλικού οξέος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Χαρακτηρίζεται από ύπαρξη μεγάλων ερυθροβλαστών στο μυελό των οστών, λόγω διαταραχής στη σύνθεση του </a:t>
            </a:r>
            <a:r>
              <a:rPr b="0" lang="en-US" sz="3200" spc="-1" strike="noStrike">
                <a:solidFill>
                  <a:srgbClr val="1f497d"/>
                </a:solidFill>
                <a:latin typeface="Calibri"/>
              </a:rPr>
              <a:t>DNA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55640" y="25560"/>
            <a:ext cx="7772400" cy="739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2b816d"/>
                </a:solidFill>
                <a:latin typeface="Calibri"/>
              </a:rPr>
              <a:t>Β</a:t>
            </a:r>
            <a:r>
              <a:rPr b="1" lang="el-GR" sz="4400" spc="-1" strike="noStrike" baseline="-25000">
                <a:solidFill>
                  <a:srgbClr val="2b816d"/>
                </a:solidFill>
                <a:latin typeface="Calibri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250560" y="836640"/>
            <a:ext cx="889308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Μειωμένα επίπεδα Β</a:t>
            </a:r>
            <a:r>
              <a:rPr b="0" lang="el-GR" sz="2600" spc="-1" strike="noStrike" baseline="-25000">
                <a:solidFill>
                  <a:srgbClr val="002060"/>
                </a:solidFill>
                <a:latin typeface="Calibri"/>
              </a:rPr>
              <a:t>12 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και φυλλικού οξέος επηρεάζουν την </a:t>
            </a:r>
            <a:r>
              <a:rPr b="0" lang="el-GR" sz="2600" spc="-1" strike="noStrike" u="sng">
                <a:solidFill>
                  <a:srgbClr val="002060"/>
                </a:solidFill>
                <a:uFillTx/>
                <a:latin typeface="Calibri"/>
              </a:rPr>
              <a:t>διαίρεση και ωρίμανση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 των κυττάρω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Παρατηρείται μείωση του αριθμού ερυθρώ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Μείωση ολικής ποσότητας αιμοσφαιρίνης, (χωρίς πρόβλημα στη σύνθεση της αιμοσφαιρίνης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Παράγονται μεγάλα ανώμαλα ερυθρά, τα μακροκύτταρα (</a:t>
            </a:r>
            <a:r>
              <a:rPr b="0" lang="el-GR" sz="2600" spc="-1" strike="noStrike">
                <a:solidFill>
                  <a:srgbClr val="ff0000"/>
                </a:solidFill>
                <a:latin typeface="Calibri"/>
              </a:rPr>
              <a:t>μακροκυτταρική αναιμία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Στο μυελό υπάρχουν πρόδρομες μορφές ερυθρών, οι μακροβλάστες (</a:t>
            </a:r>
            <a:r>
              <a:rPr b="0" lang="el-GR" sz="2600" spc="-1" strike="noStrike">
                <a:solidFill>
                  <a:srgbClr val="ff0000"/>
                </a:solidFill>
                <a:latin typeface="Calibri"/>
              </a:rPr>
              <a:t>μεγαλοβλαστική αναιμία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Για την απορρόφηση της Β</a:t>
            </a:r>
            <a:r>
              <a:rPr b="0" lang="el-GR" sz="2600" spc="-1" strike="noStrike" baseline="-25000">
                <a:solidFill>
                  <a:srgbClr val="002060"/>
                </a:solidFill>
                <a:latin typeface="Calibri"/>
              </a:rPr>
              <a:t>12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, απαιτείται η ύπαρξη του </a:t>
            </a:r>
            <a:r>
              <a:rPr b="0" lang="el-GR" sz="2600" spc="-1" strike="noStrike">
                <a:solidFill>
                  <a:srgbClr val="ff0000"/>
                </a:solidFill>
                <a:latin typeface="Calibri"/>
              </a:rPr>
              <a:t>ενδογενούς παράγοντα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, που εκκρίνεται από το στομάχι (συνδέεται με τη Β</a:t>
            </a:r>
            <a:r>
              <a:rPr b="0" lang="el-GR" sz="2600" spc="-1" strike="noStrike" baseline="-25000">
                <a:solidFill>
                  <a:srgbClr val="002060"/>
                </a:solidFill>
                <a:latin typeface="Calibri"/>
              </a:rPr>
              <a:t>12</a:t>
            </a:r>
            <a:r>
              <a:rPr b="0" lang="el-GR" sz="2600" spc="-1" strike="noStrike">
                <a:solidFill>
                  <a:srgbClr val="002060"/>
                </a:solidFill>
                <a:latin typeface="Calibri"/>
              </a:rPr>
              <a:t> και το σύμπλεγμα απορροφάται από τον ειλεό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206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Η Β</a:t>
            </a:r>
            <a:r>
              <a:rPr b="0" lang="el-GR" sz="2800" spc="-1" strike="noStrike" baseline="-25000">
                <a:solidFill>
                  <a:srgbClr val="002060"/>
                </a:solidFill>
                <a:latin typeface="Calibri"/>
              </a:rPr>
              <a:t>12</a:t>
            </a:r>
            <a:r>
              <a:rPr b="0" lang="el-GR" sz="2800" spc="-1" strike="noStrike">
                <a:solidFill>
                  <a:srgbClr val="002060"/>
                </a:solidFill>
                <a:latin typeface="Calibri"/>
              </a:rPr>
              <a:t> αποθηκεύεται στο ήπαρ για 1-2 χρόνι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2b816d"/>
                </a:solidFill>
                <a:latin typeface="Calibri"/>
              </a:rPr>
              <a:t>ΑΙΤΙΑ ΑΝΕΠΑΡΚΕΙΑΣ Β</a:t>
            </a:r>
            <a:r>
              <a:rPr b="1" lang="el-GR" sz="4400" spc="-1" strike="noStrike" baseline="-25000">
                <a:solidFill>
                  <a:srgbClr val="2b816d"/>
                </a:solidFill>
                <a:latin typeface="Calibri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907560"/>
            <a:ext cx="8578800" cy="521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1f497d"/>
                </a:solidFill>
                <a:latin typeface="Calibri"/>
              </a:rPr>
              <a:t>Μειωμένη πρόσληψη με τη διατροφή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         </a:t>
            </a: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Μειωμένη πρόσληψη ζωικών τροφίμων και λαχανικών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1f497d"/>
                </a:solidFill>
                <a:latin typeface="Calibri"/>
              </a:rPr>
              <a:t>Μειωμένη απορρόφηση - Δυσαπορρόφηση Β</a:t>
            </a:r>
            <a:r>
              <a:rPr b="1" lang="el-GR" sz="2700" spc="-1" strike="noStrike" baseline="-25000">
                <a:solidFill>
                  <a:srgbClr val="1f497d"/>
                </a:solidFill>
                <a:latin typeface="Calibri"/>
              </a:rPr>
              <a:t>12</a:t>
            </a:r>
            <a:r>
              <a:rPr b="1" lang="el-GR" sz="27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- Ατροφική γαστρίτιδ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- Κακοήθης αναιμία (απουσία ενδογενούς παράγοντα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- Γαστρεκτομή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- Παγκρεατική ανεπάρκει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- Νόσος </a:t>
            </a:r>
            <a:r>
              <a:rPr b="0" lang="en-US" sz="2700" spc="-1" strike="noStrike">
                <a:solidFill>
                  <a:srgbClr val="1f497d"/>
                </a:solidFill>
                <a:latin typeface="Calibri"/>
              </a:rPr>
              <a:t>Crohn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1f497d"/>
                </a:solidFill>
                <a:latin typeface="Calibri"/>
              </a:rPr>
              <a:t>Ανταγωνισμός για Β</a:t>
            </a:r>
            <a:r>
              <a:rPr b="1" lang="el-GR" sz="2700" spc="-1" strike="noStrike" baseline="-25000">
                <a:solidFill>
                  <a:srgbClr val="1f497d"/>
                </a:solidFill>
                <a:latin typeface="Calibri"/>
              </a:rPr>
              <a:t>12</a:t>
            </a:r>
            <a:r>
              <a:rPr b="1" lang="el-GR" sz="2700" spc="-1" strike="noStrike">
                <a:solidFill>
                  <a:srgbClr val="1f497d"/>
                </a:solidFill>
                <a:latin typeface="Calibri"/>
              </a:rPr>
              <a:t> στο έντερο </a:t>
            </a: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(υπερανάπτυξη μικρο-βιακής χλωρίδας, παρασίτωση, σύνδρομο τυφλής έλικας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1f497d"/>
                </a:solidFill>
                <a:latin typeface="Calibri"/>
              </a:rPr>
              <a:t>Μεταβολικά νοσήματ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294840" indent="-29484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ΑΙΤΙΑ ΑΝΕΠΑΡΚΕΙΑΣ ΦΥΛΛΙΚΟΥ ΟΞΕΟΣ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052280"/>
            <a:ext cx="82296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1f497d"/>
                </a:solidFill>
                <a:latin typeface="Calibri"/>
              </a:rPr>
              <a:t>Μειωμένη πρόσληψη με τη διατροφή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1f497d"/>
                </a:solidFill>
                <a:latin typeface="Calibri"/>
              </a:rPr>
              <a:t>Δυσαπορρόφηση φυλλικού οξέο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Φάρμακα / αλκοό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1f497d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Τροπική κοιλιοκάκ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1f497d"/>
                </a:solidFill>
                <a:latin typeface="Calibri"/>
              </a:rPr>
              <a:t>Αυξημένες ανάγκες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- Κύηση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- Αιμολυτική αναιμία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1f497d"/>
                </a:solidFill>
                <a:latin typeface="Calibri"/>
              </a:rPr>
              <a:t>- Αιμοκάθαρση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1f497d"/>
                </a:solidFill>
                <a:latin typeface="Calibri"/>
              </a:rPr>
              <a:t>Αναστολή διυδροφιλικής αναγωγάση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79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ΚΛΙΝΙΚΑ ΕΥΡΗΜΑΤΑ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981000"/>
            <a:ext cx="822960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1f497d"/>
                </a:solidFill>
                <a:uFillTx/>
                <a:latin typeface="Calibri"/>
              </a:rPr>
              <a:t>Γενικά ευρήματα αναιμίας 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κα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1f497d"/>
                </a:solidFill>
                <a:uFillTx/>
                <a:latin typeface="Calibri"/>
              </a:rPr>
              <a:t>Ειδικά ευρήματα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 λόγω ιστικών συνεπειών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Γλωσσίτιδα – στοματίτιδα – χειλίτιδ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Διαταραχές γαστρεντερικού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Διαταραχές αναπνευστικού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Διαταραχές οστεοβλαστικής δραστηριότητα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Αιμορραγική διάθεσ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Υπίκτερος (λόγω αιμόλυσης) – «Λεμονοειδής ωχρότητα»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Νευροπάθεια (κυρίως αισθητική, λιγότερο κινητική, αργότερα κεντρική με οπτική νευρίτιδα και νευροψυχιατρικές εκδηλώσεις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ΕΡΓΑΣΤΗΡΙΑΚΑ ΕΥΡΗΜΑΤΑ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6840" y="981000"/>
            <a:ext cx="843588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1f497d"/>
                </a:solidFill>
                <a:uFillTx/>
                <a:latin typeface="Calibri"/>
              </a:rPr>
              <a:t>Στη Γενική αίματο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Πτώση αιματοκρίτ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Πτώση αιμοσφαιρίνη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Μέσος όγκος ερυθρών (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MCV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)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αυξημένο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Μέση συγκέντρωση αιμοσφαιρίνης (Μ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CH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) αυξημέν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Μέση πυκνότητα αιμοσφαιρίνης (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MCHC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) φυσιολογική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Λευκοπενία – θρομβοπενί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1f497d"/>
                </a:solidFill>
                <a:uFillTx/>
                <a:latin typeface="Calibri"/>
              </a:rPr>
              <a:t>Στο επίχρισμα αίματος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Μακροκυττάρωση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Ανισοκυττάρωση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Ποικιλοκυττάρωσ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800" spc="-1" strike="noStrike">
                <a:solidFill>
                  <a:srgbClr val="2b816d"/>
                </a:solidFill>
                <a:latin typeface="Calibri"/>
              </a:rPr>
              <a:t>ΜΟΡΦΟΛΟΓΙΚΕΣ ΔΙΑΤΑΡΑΧΕΣ ΕΡΥΘΡΩΝ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599840"/>
            <a:ext cx="82296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A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νισοκυττάρωση </a:t>
            </a:r>
            <a:r>
              <a:rPr b="1" lang="en-US" sz="2600" spc="-1" strike="noStrike">
                <a:solidFill>
                  <a:srgbClr val="1f497d"/>
                </a:solidFill>
                <a:latin typeface="Calibri"/>
              </a:rPr>
              <a:t>= </a:t>
            </a:r>
            <a:r>
              <a:rPr b="1" lang="el-GR" sz="2600" spc="-1" strike="noStrike">
                <a:solidFill>
                  <a:srgbClr val="1f497d"/>
                </a:solidFill>
                <a:latin typeface="Calibri"/>
              </a:rPr>
              <a:t>διακυμάνσεις στο μέγεθος των ερυθρών αιμοσφαιρίω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Ποικιλοκυττάρωση</a:t>
            </a:r>
            <a:r>
              <a:rPr b="1" lang="el-GR" sz="2600" spc="-1" strike="noStrike">
                <a:solidFill>
                  <a:srgbClr val="1f497d"/>
                </a:solidFill>
                <a:latin typeface="Calibri"/>
              </a:rPr>
              <a:t> = διακυμάνσεις στο σχήμα των ερυθρών αιμοσφαιρίων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Μικροκυττάρωση</a:t>
            </a:r>
            <a:r>
              <a:rPr b="1" lang="el-GR" sz="2600" spc="-1" strike="noStrike">
                <a:solidFill>
                  <a:srgbClr val="1f497d"/>
                </a:solidFill>
                <a:latin typeface="Calibri"/>
              </a:rPr>
              <a:t> = μείωση διαμέτρου ερυθρώ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Μακροκυττάρωση</a:t>
            </a:r>
            <a:r>
              <a:rPr b="1" lang="el-GR" sz="2600" spc="-1" strike="noStrike">
                <a:solidFill>
                  <a:srgbClr val="1f497d"/>
                </a:solidFill>
                <a:latin typeface="Calibri"/>
              </a:rPr>
              <a:t> = αύξηση διαμέτρου ερυθρώ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Υποχρωμία </a:t>
            </a:r>
            <a:r>
              <a:rPr b="1" lang="el-GR" sz="2600" spc="-1" strike="noStrike">
                <a:solidFill>
                  <a:srgbClr val="1f497d"/>
                </a:solidFill>
                <a:latin typeface="Calibri"/>
              </a:rPr>
              <a:t>= μείωση συγκέντρωσης αιμοσφαιρίνης ανά ερυθρό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Μεγαλοβλάστες </a:t>
            </a:r>
            <a:r>
              <a:rPr b="1" lang="el-GR" sz="2600" spc="-1" strike="noStrike">
                <a:solidFill>
                  <a:srgbClr val="1f497d"/>
                </a:solidFill>
                <a:latin typeface="Calibri"/>
              </a:rPr>
              <a:t>= πρόδρομες μορφές ερυθρώ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1T11:01:04Z</dcterms:created>
  <dc:creator>TEI LARISA</dc:creator>
  <dc:description/>
  <dc:language>en-US</dc:language>
  <cp:lastModifiedBy>Χρήστος</cp:lastModifiedBy>
  <dcterms:modified xsi:type="dcterms:W3CDTF">2014-05-21T08:40:39Z</dcterms:modified>
  <cp:revision>38</cp:revision>
  <dc:subject/>
  <dc:title>Παρουσίαση του PowerPoint</dc:title>
</cp:coreProperties>
</file>